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8A5D-26E0-4CE2-BC03-79E428B58860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680AC-0F92-46E9-ABD9-93162A2C3270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6D2E-3D0D-4113-B1A9-074BA08C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F17-B866-4263-A348-757698EF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989-E20D-41D8-9917-615B3652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E7E-548E-4A0E-9283-66C087A1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4AB-2807-4F22-BD4E-1BC2EB6B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AB74-310D-4185-B8CD-1EC29753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59BA-09EC-44F6-BCA3-08F5E3BB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EF7-86B9-492D-BE77-6951C3CE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67D-A8E8-4E89-8A59-3D3BEEA7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4882-A34A-4732-A004-1E3210C4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8FB-5320-4C72-A285-C8ED6251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48B4-645C-48E1-88F2-075105CF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88ED-99B4-4DE8-9D6E-8CB29CEA0576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05740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riting ion electron half equation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-4668840" y="54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7"/>
          <p:cNvGrpSpPr/>
          <p:nvPr/>
        </p:nvGrpSpPr>
        <p:grpSpPr>
          <a:xfrm>
            <a:off x="6781680" y="3200400"/>
            <a:ext cx="1395720" cy="1864440"/>
            <a:chOff x="6781680" y="3200400"/>
            <a:chExt cx="1395720" cy="1864440"/>
          </a:xfrm>
        </p:grpSpPr>
        <p:sp>
          <p:nvSpPr>
            <p:cNvPr id="51" name="Freeform 8"/>
            <p:cNvSpPr/>
            <p:nvPr/>
          </p:nvSpPr>
          <p:spPr>
            <a:xfrm>
              <a:off x="7304040" y="4041360"/>
              <a:ext cx="522360" cy="685440"/>
            </a:xfrm>
            <a:custGeom>
              <a:avLst/>
              <a:gdLst/>
              <a:ahLst/>
              <a:rect l="l" t="t" r="r" b="b"/>
              <a:pathLst>
                <a:path w="1440" h="1860">
                  <a:moveTo>
                    <a:pt x="600" y="0"/>
                  </a:moveTo>
                  <a:cubicBezTo>
                    <a:pt x="390" y="0"/>
                    <a:pt x="120" y="270"/>
                    <a:pt x="60" y="540"/>
                  </a:cubicBezTo>
                  <a:cubicBezTo>
                    <a:pt x="0" y="810"/>
                    <a:pt x="90" y="1410"/>
                    <a:pt x="240" y="1620"/>
                  </a:cubicBezTo>
                  <a:cubicBezTo>
                    <a:pt x="390" y="1830"/>
                    <a:pt x="780" y="1860"/>
                    <a:pt x="960" y="1800"/>
                  </a:cubicBezTo>
                  <a:cubicBezTo>
                    <a:pt x="1140" y="1740"/>
                    <a:pt x="1260" y="1470"/>
                    <a:pt x="1320" y="1260"/>
                  </a:cubicBezTo>
                  <a:cubicBezTo>
                    <a:pt x="1380" y="1050"/>
                    <a:pt x="1440" y="750"/>
                    <a:pt x="1320" y="540"/>
                  </a:cubicBezTo>
                  <a:cubicBezTo>
                    <a:pt x="1200" y="330"/>
                    <a:pt x="810" y="0"/>
                    <a:pt x="600" y="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7500600" y="4373280"/>
              <a:ext cx="130680" cy="210240"/>
            </a:xfrm>
            <a:custGeom>
              <a:avLst/>
              <a:gdLst/>
              <a:ahLst/>
              <a:rect l="l" t="t" r="r" b="b"/>
              <a:pathLst>
                <a:path w="360" h="570">
                  <a:moveTo>
                    <a:pt x="180" y="0"/>
                  </a:moveTo>
                  <a:cubicBezTo>
                    <a:pt x="90" y="75"/>
                    <a:pt x="0" y="150"/>
                    <a:pt x="0" y="180"/>
                  </a:cubicBezTo>
                  <a:cubicBezTo>
                    <a:pt x="0" y="210"/>
                    <a:pt x="150" y="150"/>
                    <a:pt x="180" y="180"/>
                  </a:cubicBezTo>
                  <a:cubicBezTo>
                    <a:pt x="210" y="210"/>
                    <a:pt x="150" y="360"/>
                    <a:pt x="180" y="360"/>
                  </a:cubicBezTo>
                  <a:cubicBezTo>
                    <a:pt x="210" y="360"/>
                    <a:pt x="360" y="150"/>
                    <a:pt x="360" y="180"/>
                  </a:cubicBezTo>
                  <a:cubicBezTo>
                    <a:pt x="360" y="210"/>
                    <a:pt x="240" y="510"/>
                    <a:pt x="180" y="540"/>
                  </a:cubicBezTo>
                  <a:cubicBezTo>
                    <a:pt x="120" y="570"/>
                    <a:pt x="0" y="390"/>
                    <a:pt x="0" y="360"/>
                  </a:cubicBezTo>
                  <a:cubicBezTo>
                    <a:pt x="0" y="330"/>
                    <a:pt x="90" y="345"/>
                    <a:pt x="180" y="3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7108200" y="4705200"/>
              <a:ext cx="446400" cy="342720"/>
            </a:xfrm>
            <a:custGeom>
              <a:avLst/>
              <a:gdLst/>
              <a:ahLst/>
              <a:rect l="l" t="t" r="r" b="b"/>
              <a:pathLst>
                <a:path w="1230" h="930">
                  <a:moveTo>
                    <a:pt x="930" y="0"/>
                  </a:moveTo>
                  <a:cubicBezTo>
                    <a:pt x="885" y="315"/>
                    <a:pt x="840" y="630"/>
                    <a:pt x="750" y="720"/>
                  </a:cubicBezTo>
                  <a:cubicBezTo>
                    <a:pt x="660" y="810"/>
                    <a:pt x="510" y="540"/>
                    <a:pt x="390" y="540"/>
                  </a:cubicBezTo>
                  <a:cubicBezTo>
                    <a:pt x="270" y="540"/>
                    <a:pt x="60" y="660"/>
                    <a:pt x="30" y="720"/>
                  </a:cubicBezTo>
                  <a:cubicBezTo>
                    <a:pt x="0" y="780"/>
                    <a:pt x="30" y="870"/>
                    <a:pt x="210" y="900"/>
                  </a:cubicBezTo>
                  <a:cubicBezTo>
                    <a:pt x="390" y="930"/>
                    <a:pt x="990" y="930"/>
                    <a:pt x="1110" y="900"/>
                  </a:cubicBezTo>
                  <a:cubicBezTo>
                    <a:pt x="1230" y="870"/>
                    <a:pt x="930" y="870"/>
                    <a:pt x="930" y="720"/>
                  </a:cubicBezTo>
                  <a:cubicBezTo>
                    <a:pt x="930" y="570"/>
                    <a:pt x="1080" y="120"/>
                    <a:pt x="111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 flipV="1" rot="10243200">
              <a:off x="7630920" y="4686840"/>
              <a:ext cx="446400" cy="343800"/>
            </a:xfrm>
            <a:custGeom>
              <a:avLst/>
              <a:gdLst/>
              <a:ahLst/>
              <a:rect l="l" t="t" r="r" b="b"/>
              <a:pathLst>
                <a:path w="1230" h="930">
                  <a:moveTo>
                    <a:pt x="930" y="0"/>
                  </a:moveTo>
                  <a:cubicBezTo>
                    <a:pt x="885" y="315"/>
                    <a:pt x="840" y="630"/>
                    <a:pt x="750" y="720"/>
                  </a:cubicBezTo>
                  <a:cubicBezTo>
                    <a:pt x="660" y="810"/>
                    <a:pt x="510" y="540"/>
                    <a:pt x="390" y="540"/>
                  </a:cubicBezTo>
                  <a:cubicBezTo>
                    <a:pt x="270" y="540"/>
                    <a:pt x="60" y="660"/>
                    <a:pt x="30" y="720"/>
                  </a:cubicBezTo>
                  <a:cubicBezTo>
                    <a:pt x="0" y="780"/>
                    <a:pt x="30" y="870"/>
                    <a:pt x="210" y="900"/>
                  </a:cubicBezTo>
                  <a:cubicBezTo>
                    <a:pt x="390" y="930"/>
                    <a:pt x="990" y="930"/>
                    <a:pt x="1110" y="900"/>
                  </a:cubicBezTo>
                  <a:cubicBezTo>
                    <a:pt x="1230" y="870"/>
                    <a:pt x="930" y="870"/>
                    <a:pt x="930" y="720"/>
                  </a:cubicBezTo>
                  <a:cubicBezTo>
                    <a:pt x="930" y="570"/>
                    <a:pt x="1080" y="120"/>
                    <a:pt x="111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 rot="19448400">
              <a:off x="7042680" y="4240080"/>
              <a:ext cx="225000" cy="318600"/>
            </a:xfrm>
            <a:custGeom>
              <a:avLst/>
              <a:gdLst/>
              <a:ahLst/>
              <a:rect l="l" t="t" r="r" b="b"/>
              <a:pathLst>
                <a:path w="2190" h="2910">
                  <a:moveTo>
                    <a:pt x="1830" y="2910"/>
                  </a:moveTo>
                  <a:cubicBezTo>
                    <a:pt x="1560" y="2760"/>
                    <a:pt x="1290" y="2610"/>
                    <a:pt x="1110" y="2370"/>
                  </a:cubicBezTo>
                  <a:cubicBezTo>
                    <a:pt x="930" y="2130"/>
                    <a:pt x="870" y="1590"/>
                    <a:pt x="750" y="1470"/>
                  </a:cubicBezTo>
                  <a:cubicBezTo>
                    <a:pt x="630" y="1350"/>
                    <a:pt x="480" y="1650"/>
                    <a:pt x="390" y="1650"/>
                  </a:cubicBezTo>
                  <a:cubicBezTo>
                    <a:pt x="300" y="1650"/>
                    <a:pt x="210" y="1500"/>
                    <a:pt x="210" y="1470"/>
                  </a:cubicBezTo>
                  <a:cubicBezTo>
                    <a:pt x="210" y="1440"/>
                    <a:pt x="360" y="1500"/>
                    <a:pt x="390" y="1470"/>
                  </a:cubicBezTo>
                  <a:cubicBezTo>
                    <a:pt x="420" y="1440"/>
                    <a:pt x="420" y="1320"/>
                    <a:pt x="390" y="1290"/>
                  </a:cubicBezTo>
                  <a:cubicBezTo>
                    <a:pt x="360" y="1260"/>
                    <a:pt x="270" y="1320"/>
                    <a:pt x="210" y="1290"/>
                  </a:cubicBezTo>
                  <a:cubicBezTo>
                    <a:pt x="150" y="1260"/>
                    <a:pt x="60" y="1170"/>
                    <a:pt x="30" y="1110"/>
                  </a:cubicBezTo>
                  <a:cubicBezTo>
                    <a:pt x="0" y="1050"/>
                    <a:pt x="0" y="930"/>
                    <a:pt x="30" y="930"/>
                  </a:cubicBezTo>
                  <a:cubicBezTo>
                    <a:pt x="60" y="930"/>
                    <a:pt x="150" y="1080"/>
                    <a:pt x="210" y="1110"/>
                  </a:cubicBezTo>
                  <a:cubicBezTo>
                    <a:pt x="270" y="1140"/>
                    <a:pt x="360" y="1140"/>
                    <a:pt x="390" y="1110"/>
                  </a:cubicBezTo>
                  <a:cubicBezTo>
                    <a:pt x="420" y="1080"/>
                    <a:pt x="420" y="990"/>
                    <a:pt x="390" y="930"/>
                  </a:cubicBezTo>
                  <a:cubicBezTo>
                    <a:pt x="360" y="870"/>
                    <a:pt x="240" y="810"/>
                    <a:pt x="210" y="750"/>
                  </a:cubicBezTo>
                  <a:cubicBezTo>
                    <a:pt x="180" y="690"/>
                    <a:pt x="180" y="600"/>
                    <a:pt x="210" y="570"/>
                  </a:cubicBezTo>
                  <a:cubicBezTo>
                    <a:pt x="240" y="540"/>
                    <a:pt x="360" y="540"/>
                    <a:pt x="390" y="570"/>
                  </a:cubicBezTo>
                  <a:cubicBezTo>
                    <a:pt x="420" y="600"/>
                    <a:pt x="330" y="690"/>
                    <a:pt x="390" y="750"/>
                  </a:cubicBezTo>
                  <a:cubicBezTo>
                    <a:pt x="450" y="810"/>
                    <a:pt x="690" y="960"/>
                    <a:pt x="750" y="930"/>
                  </a:cubicBezTo>
                  <a:cubicBezTo>
                    <a:pt x="810" y="900"/>
                    <a:pt x="780" y="690"/>
                    <a:pt x="750" y="570"/>
                  </a:cubicBezTo>
                  <a:cubicBezTo>
                    <a:pt x="720" y="450"/>
                    <a:pt x="570" y="300"/>
                    <a:pt x="570" y="210"/>
                  </a:cubicBezTo>
                  <a:cubicBezTo>
                    <a:pt x="570" y="120"/>
                    <a:pt x="690" y="30"/>
                    <a:pt x="750" y="30"/>
                  </a:cubicBezTo>
                  <a:cubicBezTo>
                    <a:pt x="810" y="30"/>
                    <a:pt x="930" y="180"/>
                    <a:pt x="930" y="210"/>
                  </a:cubicBezTo>
                  <a:cubicBezTo>
                    <a:pt x="930" y="240"/>
                    <a:pt x="780" y="180"/>
                    <a:pt x="750" y="210"/>
                  </a:cubicBezTo>
                  <a:cubicBezTo>
                    <a:pt x="720" y="240"/>
                    <a:pt x="690" y="300"/>
                    <a:pt x="750" y="390"/>
                  </a:cubicBezTo>
                  <a:cubicBezTo>
                    <a:pt x="810" y="480"/>
                    <a:pt x="1020" y="720"/>
                    <a:pt x="1110" y="750"/>
                  </a:cubicBezTo>
                  <a:cubicBezTo>
                    <a:pt x="1200" y="780"/>
                    <a:pt x="1260" y="630"/>
                    <a:pt x="1290" y="570"/>
                  </a:cubicBezTo>
                  <a:cubicBezTo>
                    <a:pt x="1320" y="510"/>
                    <a:pt x="1320" y="420"/>
                    <a:pt x="1290" y="390"/>
                  </a:cubicBezTo>
                  <a:cubicBezTo>
                    <a:pt x="1260" y="360"/>
                    <a:pt x="1140" y="450"/>
                    <a:pt x="1110" y="390"/>
                  </a:cubicBezTo>
                  <a:cubicBezTo>
                    <a:pt x="1080" y="330"/>
                    <a:pt x="1020" y="60"/>
                    <a:pt x="1110" y="30"/>
                  </a:cubicBezTo>
                  <a:cubicBezTo>
                    <a:pt x="1200" y="0"/>
                    <a:pt x="1560" y="90"/>
                    <a:pt x="1650" y="210"/>
                  </a:cubicBezTo>
                  <a:cubicBezTo>
                    <a:pt x="1740" y="330"/>
                    <a:pt x="1680" y="600"/>
                    <a:pt x="1650" y="750"/>
                  </a:cubicBezTo>
                  <a:cubicBezTo>
                    <a:pt x="1620" y="900"/>
                    <a:pt x="1500" y="930"/>
                    <a:pt x="1470" y="1110"/>
                  </a:cubicBezTo>
                  <a:cubicBezTo>
                    <a:pt x="1440" y="1290"/>
                    <a:pt x="1380" y="1590"/>
                    <a:pt x="1470" y="1830"/>
                  </a:cubicBezTo>
                  <a:cubicBezTo>
                    <a:pt x="1560" y="2070"/>
                    <a:pt x="1890" y="2430"/>
                    <a:pt x="2010" y="2550"/>
                  </a:cubicBezTo>
                  <a:cubicBezTo>
                    <a:pt x="2130" y="2670"/>
                    <a:pt x="2160" y="2610"/>
                    <a:pt x="2190" y="25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 flipH="1" rot="3233400">
              <a:off x="7868520" y="4313520"/>
              <a:ext cx="228960" cy="313200"/>
            </a:xfrm>
            <a:custGeom>
              <a:avLst/>
              <a:gdLst/>
              <a:ahLst/>
              <a:rect l="l" t="t" r="r" b="b"/>
              <a:pathLst>
                <a:path w="2190" h="2910">
                  <a:moveTo>
                    <a:pt x="1830" y="2910"/>
                  </a:moveTo>
                  <a:cubicBezTo>
                    <a:pt x="1560" y="2760"/>
                    <a:pt x="1290" y="2610"/>
                    <a:pt x="1110" y="2370"/>
                  </a:cubicBezTo>
                  <a:cubicBezTo>
                    <a:pt x="930" y="2130"/>
                    <a:pt x="870" y="1590"/>
                    <a:pt x="750" y="1470"/>
                  </a:cubicBezTo>
                  <a:cubicBezTo>
                    <a:pt x="630" y="1350"/>
                    <a:pt x="480" y="1650"/>
                    <a:pt x="390" y="1650"/>
                  </a:cubicBezTo>
                  <a:cubicBezTo>
                    <a:pt x="300" y="1650"/>
                    <a:pt x="210" y="1500"/>
                    <a:pt x="210" y="1470"/>
                  </a:cubicBezTo>
                  <a:cubicBezTo>
                    <a:pt x="210" y="1440"/>
                    <a:pt x="360" y="1500"/>
                    <a:pt x="390" y="1470"/>
                  </a:cubicBezTo>
                  <a:cubicBezTo>
                    <a:pt x="420" y="1440"/>
                    <a:pt x="420" y="1320"/>
                    <a:pt x="390" y="1290"/>
                  </a:cubicBezTo>
                  <a:cubicBezTo>
                    <a:pt x="360" y="1260"/>
                    <a:pt x="270" y="1320"/>
                    <a:pt x="210" y="1290"/>
                  </a:cubicBezTo>
                  <a:cubicBezTo>
                    <a:pt x="150" y="1260"/>
                    <a:pt x="60" y="1170"/>
                    <a:pt x="30" y="1110"/>
                  </a:cubicBezTo>
                  <a:cubicBezTo>
                    <a:pt x="0" y="1050"/>
                    <a:pt x="0" y="930"/>
                    <a:pt x="30" y="930"/>
                  </a:cubicBezTo>
                  <a:cubicBezTo>
                    <a:pt x="60" y="930"/>
                    <a:pt x="150" y="1080"/>
                    <a:pt x="210" y="1110"/>
                  </a:cubicBezTo>
                  <a:cubicBezTo>
                    <a:pt x="270" y="1140"/>
                    <a:pt x="360" y="1140"/>
                    <a:pt x="390" y="1110"/>
                  </a:cubicBezTo>
                  <a:cubicBezTo>
                    <a:pt x="420" y="1080"/>
                    <a:pt x="420" y="990"/>
                    <a:pt x="390" y="930"/>
                  </a:cubicBezTo>
                  <a:cubicBezTo>
                    <a:pt x="360" y="870"/>
                    <a:pt x="240" y="810"/>
                    <a:pt x="210" y="750"/>
                  </a:cubicBezTo>
                  <a:cubicBezTo>
                    <a:pt x="180" y="690"/>
                    <a:pt x="180" y="600"/>
                    <a:pt x="210" y="570"/>
                  </a:cubicBezTo>
                  <a:cubicBezTo>
                    <a:pt x="240" y="540"/>
                    <a:pt x="360" y="540"/>
                    <a:pt x="390" y="570"/>
                  </a:cubicBezTo>
                  <a:cubicBezTo>
                    <a:pt x="420" y="600"/>
                    <a:pt x="330" y="690"/>
                    <a:pt x="390" y="750"/>
                  </a:cubicBezTo>
                  <a:cubicBezTo>
                    <a:pt x="450" y="810"/>
                    <a:pt x="690" y="960"/>
                    <a:pt x="750" y="930"/>
                  </a:cubicBezTo>
                  <a:cubicBezTo>
                    <a:pt x="810" y="900"/>
                    <a:pt x="780" y="690"/>
                    <a:pt x="750" y="570"/>
                  </a:cubicBezTo>
                  <a:cubicBezTo>
                    <a:pt x="720" y="450"/>
                    <a:pt x="570" y="300"/>
                    <a:pt x="570" y="210"/>
                  </a:cubicBezTo>
                  <a:cubicBezTo>
                    <a:pt x="570" y="120"/>
                    <a:pt x="690" y="30"/>
                    <a:pt x="750" y="30"/>
                  </a:cubicBezTo>
                  <a:cubicBezTo>
                    <a:pt x="810" y="30"/>
                    <a:pt x="930" y="180"/>
                    <a:pt x="930" y="210"/>
                  </a:cubicBezTo>
                  <a:cubicBezTo>
                    <a:pt x="930" y="240"/>
                    <a:pt x="780" y="180"/>
                    <a:pt x="750" y="210"/>
                  </a:cubicBezTo>
                  <a:cubicBezTo>
                    <a:pt x="720" y="240"/>
                    <a:pt x="690" y="300"/>
                    <a:pt x="750" y="390"/>
                  </a:cubicBezTo>
                  <a:cubicBezTo>
                    <a:pt x="810" y="480"/>
                    <a:pt x="1020" y="720"/>
                    <a:pt x="1110" y="750"/>
                  </a:cubicBezTo>
                  <a:cubicBezTo>
                    <a:pt x="1200" y="780"/>
                    <a:pt x="1260" y="630"/>
                    <a:pt x="1290" y="570"/>
                  </a:cubicBezTo>
                  <a:cubicBezTo>
                    <a:pt x="1320" y="510"/>
                    <a:pt x="1320" y="420"/>
                    <a:pt x="1290" y="390"/>
                  </a:cubicBezTo>
                  <a:cubicBezTo>
                    <a:pt x="1260" y="360"/>
                    <a:pt x="1140" y="450"/>
                    <a:pt x="1110" y="390"/>
                  </a:cubicBezTo>
                  <a:cubicBezTo>
                    <a:pt x="1080" y="330"/>
                    <a:pt x="1020" y="60"/>
                    <a:pt x="1110" y="30"/>
                  </a:cubicBezTo>
                  <a:cubicBezTo>
                    <a:pt x="1200" y="0"/>
                    <a:pt x="1560" y="90"/>
                    <a:pt x="1650" y="210"/>
                  </a:cubicBezTo>
                  <a:cubicBezTo>
                    <a:pt x="1740" y="330"/>
                    <a:pt x="1680" y="600"/>
                    <a:pt x="1650" y="750"/>
                  </a:cubicBezTo>
                  <a:cubicBezTo>
                    <a:pt x="1620" y="900"/>
                    <a:pt x="1500" y="930"/>
                    <a:pt x="1470" y="1110"/>
                  </a:cubicBezTo>
                  <a:cubicBezTo>
                    <a:pt x="1440" y="1290"/>
                    <a:pt x="1380" y="1590"/>
                    <a:pt x="1470" y="1830"/>
                  </a:cubicBezTo>
                  <a:cubicBezTo>
                    <a:pt x="1560" y="2070"/>
                    <a:pt x="1890" y="2430"/>
                    <a:pt x="2010" y="2550"/>
                  </a:cubicBezTo>
                  <a:cubicBezTo>
                    <a:pt x="2130" y="2670"/>
                    <a:pt x="2160" y="2610"/>
                    <a:pt x="2190" y="25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7369560" y="4129920"/>
              <a:ext cx="195840" cy="19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7434720" y="4196160"/>
              <a:ext cx="644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7630920" y="4198320"/>
              <a:ext cx="195840" cy="19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7696080" y="4262760"/>
              <a:ext cx="64440" cy="66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8"/>
            <p:cNvSpPr/>
            <p:nvPr/>
          </p:nvSpPr>
          <p:spPr>
            <a:xfrm>
              <a:off x="7304040" y="3808800"/>
              <a:ext cx="457200" cy="387000"/>
            </a:xfrm>
            <a:custGeom>
              <a:avLst/>
              <a:gdLst/>
              <a:ahLst/>
              <a:rect l="l" t="t" r="r" b="b"/>
              <a:pathLst>
                <a:path w="1260" h="1050">
                  <a:moveTo>
                    <a:pt x="0" y="1050"/>
                  </a:moveTo>
                  <a:cubicBezTo>
                    <a:pt x="0" y="675"/>
                    <a:pt x="0" y="300"/>
                    <a:pt x="180" y="150"/>
                  </a:cubicBezTo>
                  <a:cubicBezTo>
                    <a:pt x="360" y="0"/>
                    <a:pt x="900" y="0"/>
                    <a:pt x="1080" y="150"/>
                  </a:cubicBezTo>
                  <a:cubicBezTo>
                    <a:pt x="1260" y="300"/>
                    <a:pt x="1230" y="900"/>
                    <a:pt x="1260" y="10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9"/>
            <p:cNvSpPr/>
            <p:nvPr/>
          </p:nvSpPr>
          <p:spPr>
            <a:xfrm>
              <a:off x="7151760" y="4196160"/>
              <a:ext cx="152280" cy="88200"/>
            </a:xfrm>
            <a:custGeom>
              <a:avLst/>
              <a:gdLst/>
              <a:ahLst/>
              <a:rect l="l" t="t" r="r" b="b"/>
              <a:pathLst>
                <a:path w="420" h="240">
                  <a:moveTo>
                    <a:pt x="420" y="30"/>
                  </a:moveTo>
                  <a:cubicBezTo>
                    <a:pt x="270" y="15"/>
                    <a:pt x="120" y="0"/>
                    <a:pt x="60" y="30"/>
                  </a:cubicBezTo>
                  <a:cubicBezTo>
                    <a:pt x="0" y="60"/>
                    <a:pt x="0" y="180"/>
                    <a:pt x="60" y="210"/>
                  </a:cubicBezTo>
                  <a:cubicBezTo>
                    <a:pt x="120" y="240"/>
                    <a:pt x="270" y="225"/>
                    <a:pt x="420" y="2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0"/>
            <p:cNvSpPr/>
            <p:nvPr/>
          </p:nvSpPr>
          <p:spPr>
            <a:xfrm>
              <a:off x="7761240" y="4196160"/>
              <a:ext cx="152280" cy="88200"/>
            </a:xfrm>
            <a:custGeom>
              <a:avLst/>
              <a:gdLst/>
              <a:ahLst/>
              <a:rect l="l" t="t" r="r" b="b"/>
              <a:pathLst>
                <a:path w="420" h="240">
                  <a:moveTo>
                    <a:pt x="0" y="30"/>
                  </a:moveTo>
                  <a:cubicBezTo>
                    <a:pt x="150" y="15"/>
                    <a:pt x="300" y="0"/>
                    <a:pt x="360" y="30"/>
                  </a:cubicBezTo>
                  <a:cubicBezTo>
                    <a:pt x="420" y="60"/>
                    <a:pt x="390" y="180"/>
                    <a:pt x="360" y="210"/>
                  </a:cubicBezTo>
                  <a:cubicBezTo>
                    <a:pt x="330" y="240"/>
                    <a:pt x="255" y="225"/>
                    <a:pt x="180" y="2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21"/>
            <p:cNvSpPr/>
            <p:nvPr/>
          </p:nvSpPr>
          <p:spPr>
            <a:xfrm>
              <a:off x="7108200" y="3200400"/>
              <a:ext cx="783720" cy="597240"/>
            </a:xfrm>
            <a:prstGeom prst="irregularSeal2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2"/>
            <p:cNvSpPr/>
            <p:nvPr/>
          </p:nvSpPr>
          <p:spPr>
            <a:xfrm>
              <a:off x="6781680" y="3532320"/>
              <a:ext cx="457200" cy="33192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23"/>
            <p:cNvSpPr/>
            <p:nvPr/>
          </p:nvSpPr>
          <p:spPr>
            <a:xfrm flipH="1">
              <a:off x="7761240" y="3532320"/>
              <a:ext cx="391680" cy="331920"/>
            </a:xfrm>
            <a:prstGeom prst="lightningBol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6"/>
          <p:cNvSpPr/>
          <p:nvPr/>
        </p:nvSpPr>
        <p:spPr>
          <a:xfrm>
            <a:off x="609480" y="32767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.and balanced redox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762120" y="51814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……. polyatomic ions or molecules are involved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1371600" y="42670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n acidic and neutral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676520" cy="9936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2057400" y="471600"/>
            <a:ext cx="49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 Brain Too Small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94920" y="1523520"/>
            <a:ext cx="3048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SO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Redox rxns involving polyatomic ions or molecu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191120" y="15238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permanganate = manganate (V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4191120" y="2133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267080" y="2819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ydrogen per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191120" y="3429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4191120" y="3962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4191120" y="4495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ulfur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4114800" y="51814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anganese dioxide = manganese (IV) 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3808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 acidified potassium permanganate solution (purple) will turn colourless when iron (II) sulfate is ad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80880" y="289548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d: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Writing ion – electron half equations – 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43600" y="304812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6629400" y="289548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 4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666880" y="2895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8H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352680" y="3124080"/>
            <a:ext cx="1067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3809880" y="2895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533520" y="3581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x: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+  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7848720" y="3581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x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33520" y="43434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x: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F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F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+  5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 flipH="1">
            <a:off x="6934320" y="426708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 flipH="1">
            <a:off x="4191120" y="2743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0" y="52578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verall: Mn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6095880" y="5410080"/>
            <a:ext cx="19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5867280" y="5257800"/>
            <a:ext cx="175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 4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2514600" y="5257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8H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3505320" y="52578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5Fe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3"/>
          <p:cNvSpPr/>
          <p:nvPr/>
        </p:nvSpPr>
        <p:spPr>
          <a:xfrm>
            <a:off x="7315200" y="5257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5Fe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4"/>
          <p:cNvSpPr/>
          <p:nvPr/>
        </p:nvSpPr>
        <p:spPr>
          <a:xfrm>
            <a:off x="304920" y="1828800"/>
            <a:ext cx="838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permanganate ion (MnO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) reacts with the Fe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ion to form Mn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and Fe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, a colourless (or v. pale orang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 u="sng">
                <a:solidFill>
                  <a:srgbClr val="000000"/>
                </a:solidFill>
                <a:uFillTx/>
                <a:latin typeface="Arial"/>
              </a:rPr>
              <a:t>The Rules</a:t>
            </a:r>
            <a:br>
              <a:rPr sz="44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 few</a:t>
            </a:r>
            <a:r>
              <a:rPr b="0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 extra steps</a:t>
            </a:r>
            <a:r>
              <a:rPr b="0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Balance the atoms which aren’t O or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dd water molecules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to the other side to balance any oxygen at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dd H</a:t>
            </a:r>
            <a:r>
              <a:rPr b="1" lang="en-NZ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ions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to the other side to balance the H’s in the water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alance the charges by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adding electrons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o the most positive side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Cancel out terms that appear on both sides and comb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267080" y="228600"/>
            <a:ext cx="4191120" cy="1295280"/>
          </a:xfrm>
          <a:prstGeom prst="wedgeRoundRectCallout">
            <a:avLst>
              <a:gd name="adj1" fmla="val -68259"/>
              <a:gd name="adj2" fmla="val 31250"/>
              <a:gd name="adj3" fmla="val 16667"/>
            </a:avLst>
          </a:prstGeom>
          <a:solidFill>
            <a:srgbClr val="fdff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You don’t have to use them all… but make sure you do them in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80880" y="990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 acidified potassium dichromate solution (orange) will turn green when iron (II) sulfate is ad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80880" y="289548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d: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Cr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943600" y="304812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629400" y="289548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 7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666880" y="2895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3352680" y="3124080"/>
            <a:ext cx="1067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809880" y="2895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6 e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8077320" y="3581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x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 flipH="1">
            <a:off x="4191120" y="2743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5410080" y="28954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5"/>
          <p:cNvSpPr/>
          <p:nvPr/>
        </p:nvSpPr>
        <p:spPr>
          <a:xfrm>
            <a:off x="152280" y="5334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verall:Cr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6400800" y="5334120"/>
            <a:ext cx="297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7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 +6Fe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2590920" y="5334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6Fe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304920" y="1828800"/>
            <a:ext cx="838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dichromate ion (Cr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) reacts with the Fe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ion to form Cr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green) and Fe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5"/>
          <p:cNvSpPr/>
          <p:nvPr/>
        </p:nvSpPr>
        <p:spPr>
          <a:xfrm>
            <a:off x="533520" y="35812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x: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+  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7"/>
          <p:cNvSpPr/>
          <p:nvPr/>
        </p:nvSpPr>
        <p:spPr>
          <a:xfrm>
            <a:off x="533520" y="43434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x: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6F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6F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+  6e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8"/>
          <p:cNvSpPr/>
          <p:nvPr/>
        </p:nvSpPr>
        <p:spPr>
          <a:xfrm flipH="1">
            <a:off x="6857640" y="426708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3808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 acidified hydrogen peroxide solution (colourless) will turn red-orange when potassium bromide solution is ad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80880" y="289548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d: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   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Exampl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943600" y="304812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362320" y="28954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2H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276720" y="2895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380880" y="3581280"/>
            <a:ext cx="647712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x: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en-NZ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Br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 flipH="1">
            <a:off x="3657600" y="2743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304920" y="1828800"/>
            <a:ext cx="80769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hydrogen peroxide (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) reacts with the Br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ion to form water and Br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red-orang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5791320" y="28954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3"/>
          <p:cNvSpPr/>
          <p:nvPr/>
        </p:nvSpPr>
        <p:spPr>
          <a:xfrm>
            <a:off x="457200" y="449568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verall: 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                 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2Br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2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  + Br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 flipV="1" rot="10800000">
            <a:off x="2742840" y="4495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2H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1600200" y="365760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8"/>
          <p:cNvSpPr/>
          <p:nvPr/>
        </p:nvSpPr>
        <p:spPr>
          <a:xfrm>
            <a:off x="1905120" y="35956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9"/>
          <p:cNvSpPr/>
          <p:nvPr/>
        </p:nvSpPr>
        <p:spPr>
          <a:xfrm flipH="1">
            <a:off x="7162920" y="342900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0"/>
          <p:cNvSpPr/>
          <p:nvPr/>
        </p:nvSpPr>
        <p:spPr>
          <a:xfrm>
            <a:off x="6705720" y="36576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380880" y="990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 acidified potassium dichromate solution (orange) will turn green when sodium hydrogen sulfite is ad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80880" y="289548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d: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Cr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00"/>
                </a:solidFill>
                <a:uFillTx/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943600" y="304812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629400" y="289548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 7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666880" y="2895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3352680" y="3124080"/>
            <a:ext cx="1067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809880" y="28954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6 e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8077320" y="3581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(x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 flipH="1">
            <a:off x="4191120" y="2743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5410080" y="28954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2"/>
          <p:cNvSpPr/>
          <p:nvPr/>
        </p:nvSpPr>
        <p:spPr>
          <a:xfrm>
            <a:off x="380880" y="365760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x: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HS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5943600" y="380988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2743200" y="36576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 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5"/>
          <p:cNvSpPr/>
          <p:nvPr/>
        </p:nvSpPr>
        <p:spPr>
          <a:xfrm>
            <a:off x="5943600" y="3657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3H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7010280" y="3657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2e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 flipH="1">
            <a:off x="7315200" y="426708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380880" y="44197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x: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3HS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3S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5943600" y="457200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2743200" y="434340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 3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5943600" y="44197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9H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7620120" y="4572000"/>
            <a:ext cx="106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6934320" y="4419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6e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6"/>
          <p:cNvSpPr/>
          <p:nvPr/>
        </p:nvSpPr>
        <p:spPr>
          <a:xfrm>
            <a:off x="152280" y="533412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verall:Cr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2Cr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>
            <a:off x="6400800" y="5334120"/>
            <a:ext cx="2971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4H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 +3S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8"/>
          <p:cNvSpPr/>
          <p:nvPr/>
        </p:nvSpPr>
        <p:spPr>
          <a:xfrm>
            <a:off x="2590920" y="533412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 5H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3HSO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1"/>
          <p:cNvSpPr/>
          <p:nvPr/>
        </p:nvSpPr>
        <p:spPr>
          <a:xfrm flipH="1">
            <a:off x="6248520" y="434340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2"/>
          <p:cNvSpPr/>
          <p:nvPr/>
        </p:nvSpPr>
        <p:spPr>
          <a:xfrm flipH="1">
            <a:off x="3048120" y="28195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3"/>
          <p:cNvSpPr/>
          <p:nvPr/>
        </p:nvSpPr>
        <p:spPr>
          <a:xfrm>
            <a:off x="3124080" y="2514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4"/>
          <p:cNvSpPr/>
          <p:nvPr/>
        </p:nvSpPr>
        <p:spPr>
          <a:xfrm flipH="1">
            <a:off x="3352680" y="4191120"/>
            <a:ext cx="53352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5"/>
          <p:cNvSpPr/>
          <p:nvPr/>
        </p:nvSpPr>
        <p:spPr>
          <a:xfrm flipH="1">
            <a:off x="7086240" y="281952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6"/>
          <p:cNvSpPr/>
          <p:nvPr/>
        </p:nvSpPr>
        <p:spPr>
          <a:xfrm>
            <a:off x="6934320" y="25653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8"/>
          <p:cNvSpPr/>
          <p:nvPr/>
        </p:nvSpPr>
        <p:spPr>
          <a:xfrm>
            <a:off x="304920" y="1828800"/>
            <a:ext cx="8381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he dichromate ion (Cr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) reacts with the hydrogen sulfite (HSO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) ion to form Cr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3+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green) and SO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400" spc="-1" strike="noStrike" baseline="30000">
                <a:solidFill>
                  <a:srgbClr val="000000"/>
                </a:solidFill>
                <a:latin typeface="Arial"/>
              </a:rPr>
              <a:t>2-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(colourle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b2s</dc:creator>
  <dc:description/>
  <dc:language>en-US</dc:language>
  <cp:lastModifiedBy>Josi</cp:lastModifiedBy>
  <dcterms:modified xsi:type="dcterms:W3CDTF">2012-01-14T04:43:0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