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4AE8-1A24-46FE-BA3C-BC3364D362B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E596-8997-478D-8B5B-341EBC667BF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A13-3CE1-4703-905B-FDE33B26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2BA-E2E7-4488-9882-507D8ACC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F38-8ADE-4753-9C51-F49DBA4A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AB9-BDA3-4265-BDBC-21F08149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509-CCB0-4225-AE6E-A64454F5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FBB-A0E2-4283-B0AD-493CCCE3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BD3-E023-466B-949C-4F57FFF3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CDD-07B1-422D-A187-C3395486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56F-2A16-42B2-ADF7-1C4CD872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DCD-F994-4D1F-93CA-7E27F9AA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D06-09C5-4033-9091-263AEB33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A37-B172-468D-B812-C621D48F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04E8-8E38-4228-BD1A-4781D2D2E137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05740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riting ion electron half equation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-4668840" y="54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6781680" y="3200400"/>
            <a:ext cx="1395720" cy="1864440"/>
            <a:chOff x="6781680" y="3200400"/>
            <a:chExt cx="1395720" cy="1864440"/>
          </a:xfrm>
        </p:grpSpPr>
        <p:sp>
          <p:nvSpPr>
            <p:cNvPr id="51" name="Freeform 8"/>
            <p:cNvSpPr/>
            <p:nvPr/>
          </p:nvSpPr>
          <p:spPr>
            <a:xfrm>
              <a:off x="7304040" y="4041360"/>
              <a:ext cx="522360" cy="685440"/>
            </a:xfrm>
            <a:custGeom>
              <a:avLst/>
              <a:gdLst/>
              <a:ahLst/>
              <a:rect l="l" t="t" r="r" b="b"/>
              <a:pathLst>
                <a:path w="1440" h="1860">
                  <a:moveTo>
                    <a:pt x="600" y="0"/>
                  </a:moveTo>
                  <a:cubicBezTo>
                    <a:pt x="390" y="0"/>
                    <a:pt x="120" y="270"/>
                    <a:pt x="60" y="540"/>
                  </a:cubicBezTo>
                  <a:cubicBezTo>
                    <a:pt x="0" y="810"/>
                    <a:pt x="90" y="1410"/>
                    <a:pt x="240" y="1620"/>
                  </a:cubicBezTo>
                  <a:cubicBezTo>
                    <a:pt x="390" y="1830"/>
                    <a:pt x="780" y="1860"/>
                    <a:pt x="960" y="1800"/>
                  </a:cubicBezTo>
                  <a:cubicBezTo>
                    <a:pt x="1140" y="1740"/>
                    <a:pt x="1260" y="1470"/>
                    <a:pt x="1320" y="1260"/>
                  </a:cubicBezTo>
                  <a:cubicBezTo>
                    <a:pt x="1380" y="1050"/>
                    <a:pt x="1440" y="750"/>
                    <a:pt x="1320" y="540"/>
                  </a:cubicBezTo>
                  <a:cubicBezTo>
                    <a:pt x="1200" y="330"/>
                    <a:pt x="810" y="0"/>
                    <a:pt x="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7500600" y="4373280"/>
              <a:ext cx="130680" cy="210240"/>
            </a:xfrm>
            <a:custGeom>
              <a:avLst/>
              <a:gdLst/>
              <a:ahLst/>
              <a:rect l="l" t="t" r="r" b="b"/>
              <a:pathLst>
                <a:path w="360" h="570">
                  <a:moveTo>
                    <a:pt x="180" y="0"/>
                  </a:moveTo>
                  <a:cubicBezTo>
                    <a:pt x="90" y="75"/>
                    <a:pt x="0" y="150"/>
                    <a:pt x="0" y="180"/>
                  </a:cubicBezTo>
                  <a:cubicBezTo>
                    <a:pt x="0" y="210"/>
                    <a:pt x="150" y="150"/>
                    <a:pt x="180" y="180"/>
                  </a:cubicBezTo>
                  <a:cubicBezTo>
                    <a:pt x="210" y="210"/>
                    <a:pt x="150" y="360"/>
                    <a:pt x="180" y="360"/>
                  </a:cubicBezTo>
                  <a:cubicBezTo>
                    <a:pt x="210" y="360"/>
                    <a:pt x="360" y="150"/>
                    <a:pt x="360" y="180"/>
                  </a:cubicBezTo>
                  <a:cubicBezTo>
                    <a:pt x="360" y="210"/>
                    <a:pt x="240" y="510"/>
                    <a:pt x="180" y="540"/>
                  </a:cubicBezTo>
                  <a:cubicBezTo>
                    <a:pt x="120" y="570"/>
                    <a:pt x="0" y="390"/>
                    <a:pt x="0" y="360"/>
                  </a:cubicBezTo>
                  <a:cubicBezTo>
                    <a:pt x="0" y="330"/>
                    <a:pt x="90" y="345"/>
                    <a:pt x="180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7108200" y="4705200"/>
              <a:ext cx="446400" cy="342720"/>
            </a:xfrm>
            <a:custGeom>
              <a:avLst/>
              <a:gdLst/>
              <a:ahLst/>
              <a:rect l="l" t="t" r="r" b="b"/>
              <a:pathLst>
                <a:path w="1230" h="930">
                  <a:moveTo>
                    <a:pt x="930" y="0"/>
                  </a:moveTo>
                  <a:cubicBezTo>
                    <a:pt x="885" y="315"/>
                    <a:pt x="840" y="630"/>
                    <a:pt x="750" y="720"/>
                  </a:cubicBezTo>
                  <a:cubicBezTo>
                    <a:pt x="660" y="810"/>
                    <a:pt x="510" y="540"/>
                    <a:pt x="390" y="540"/>
                  </a:cubicBezTo>
                  <a:cubicBezTo>
                    <a:pt x="270" y="540"/>
                    <a:pt x="60" y="660"/>
                    <a:pt x="30" y="720"/>
                  </a:cubicBezTo>
                  <a:cubicBezTo>
                    <a:pt x="0" y="780"/>
                    <a:pt x="30" y="870"/>
                    <a:pt x="210" y="900"/>
                  </a:cubicBezTo>
                  <a:cubicBezTo>
                    <a:pt x="390" y="930"/>
                    <a:pt x="990" y="930"/>
                    <a:pt x="1110" y="900"/>
                  </a:cubicBezTo>
                  <a:cubicBezTo>
                    <a:pt x="1230" y="870"/>
                    <a:pt x="930" y="870"/>
                    <a:pt x="930" y="720"/>
                  </a:cubicBezTo>
                  <a:cubicBezTo>
                    <a:pt x="930" y="570"/>
                    <a:pt x="1080" y="120"/>
                    <a:pt x="111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 flipV="1" rot="10243200">
              <a:off x="7630920" y="4686840"/>
              <a:ext cx="446400" cy="343800"/>
            </a:xfrm>
            <a:custGeom>
              <a:avLst/>
              <a:gdLst/>
              <a:ahLst/>
              <a:rect l="l" t="t" r="r" b="b"/>
              <a:pathLst>
                <a:path w="1230" h="930">
                  <a:moveTo>
                    <a:pt x="930" y="0"/>
                  </a:moveTo>
                  <a:cubicBezTo>
                    <a:pt x="885" y="315"/>
                    <a:pt x="840" y="630"/>
                    <a:pt x="750" y="720"/>
                  </a:cubicBezTo>
                  <a:cubicBezTo>
                    <a:pt x="660" y="810"/>
                    <a:pt x="510" y="540"/>
                    <a:pt x="390" y="540"/>
                  </a:cubicBezTo>
                  <a:cubicBezTo>
                    <a:pt x="270" y="540"/>
                    <a:pt x="60" y="660"/>
                    <a:pt x="30" y="720"/>
                  </a:cubicBezTo>
                  <a:cubicBezTo>
                    <a:pt x="0" y="780"/>
                    <a:pt x="30" y="870"/>
                    <a:pt x="210" y="900"/>
                  </a:cubicBezTo>
                  <a:cubicBezTo>
                    <a:pt x="390" y="930"/>
                    <a:pt x="990" y="930"/>
                    <a:pt x="1110" y="900"/>
                  </a:cubicBezTo>
                  <a:cubicBezTo>
                    <a:pt x="1230" y="870"/>
                    <a:pt x="930" y="870"/>
                    <a:pt x="930" y="720"/>
                  </a:cubicBezTo>
                  <a:cubicBezTo>
                    <a:pt x="930" y="570"/>
                    <a:pt x="1080" y="120"/>
                    <a:pt x="111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 rot="19448400">
              <a:off x="7042680" y="4240080"/>
              <a:ext cx="225000" cy="318600"/>
            </a:xfrm>
            <a:custGeom>
              <a:avLst/>
              <a:gdLst/>
              <a:ahLst/>
              <a:rect l="l" t="t" r="r" b="b"/>
              <a:pathLst>
                <a:path w="2190" h="2910">
                  <a:moveTo>
                    <a:pt x="1830" y="2910"/>
                  </a:moveTo>
                  <a:cubicBezTo>
                    <a:pt x="1560" y="2760"/>
                    <a:pt x="1290" y="2610"/>
                    <a:pt x="1110" y="2370"/>
                  </a:cubicBezTo>
                  <a:cubicBezTo>
                    <a:pt x="930" y="2130"/>
                    <a:pt x="870" y="1590"/>
                    <a:pt x="750" y="1470"/>
                  </a:cubicBezTo>
                  <a:cubicBezTo>
                    <a:pt x="630" y="1350"/>
                    <a:pt x="480" y="1650"/>
                    <a:pt x="390" y="1650"/>
                  </a:cubicBezTo>
                  <a:cubicBezTo>
                    <a:pt x="300" y="1650"/>
                    <a:pt x="210" y="1500"/>
                    <a:pt x="210" y="1470"/>
                  </a:cubicBezTo>
                  <a:cubicBezTo>
                    <a:pt x="210" y="1440"/>
                    <a:pt x="360" y="1500"/>
                    <a:pt x="390" y="1470"/>
                  </a:cubicBezTo>
                  <a:cubicBezTo>
                    <a:pt x="420" y="1440"/>
                    <a:pt x="420" y="1320"/>
                    <a:pt x="390" y="1290"/>
                  </a:cubicBezTo>
                  <a:cubicBezTo>
                    <a:pt x="360" y="1260"/>
                    <a:pt x="270" y="1320"/>
                    <a:pt x="210" y="1290"/>
                  </a:cubicBezTo>
                  <a:cubicBezTo>
                    <a:pt x="150" y="1260"/>
                    <a:pt x="60" y="1170"/>
                    <a:pt x="30" y="1110"/>
                  </a:cubicBezTo>
                  <a:cubicBezTo>
                    <a:pt x="0" y="1050"/>
                    <a:pt x="0" y="930"/>
                    <a:pt x="30" y="930"/>
                  </a:cubicBezTo>
                  <a:cubicBezTo>
                    <a:pt x="60" y="930"/>
                    <a:pt x="150" y="1080"/>
                    <a:pt x="210" y="1110"/>
                  </a:cubicBezTo>
                  <a:cubicBezTo>
                    <a:pt x="270" y="1140"/>
                    <a:pt x="360" y="1140"/>
                    <a:pt x="390" y="1110"/>
                  </a:cubicBezTo>
                  <a:cubicBezTo>
                    <a:pt x="420" y="1080"/>
                    <a:pt x="420" y="990"/>
                    <a:pt x="390" y="930"/>
                  </a:cubicBezTo>
                  <a:cubicBezTo>
                    <a:pt x="360" y="870"/>
                    <a:pt x="240" y="810"/>
                    <a:pt x="210" y="750"/>
                  </a:cubicBezTo>
                  <a:cubicBezTo>
                    <a:pt x="180" y="690"/>
                    <a:pt x="180" y="600"/>
                    <a:pt x="210" y="570"/>
                  </a:cubicBezTo>
                  <a:cubicBezTo>
                    <a:pt x="240" y="540"/>
                    <a:pt x="360" y="540"/>
                    <a:pt x="390" y="570"/>
                  </a:cubicBezTo>
                  <a:cubicBezTo>
                    <a:pt x="420" y="600"/>
                    <a:pt x="330" y="690"/>
                    <a:pt x="390" y="750"/>
                  </a:cubicBezTo>
                  <a:cubicBezTo>
                    <a:pt x="450" y="810"/>
                    <a:pt x="690" y="960"/>
                    <a:pt x="750" y="930"/>
                  </a:cubicBezTo>
                  <a:cubicBezTo>
                    <a:pt x="810" y="900"/>
                    <a:pt x="780" y="690"/>
                    <a:pt x="750" y="570"/>
                  </a:cubicBezTo>
                  <a:cubicBezTo>
                    <a:pt x="720" y="450"/>
                    <a:pt x="570" y="300"/>
                    <a:pt x="570" y="210"/>
                  </a:cubicBezTo>
                  <a:cubicBezTo>
                    <a:pt x="570" y="120"/>
                    <a:pt x="690" y="30"/>
                    <a:pt x="750" y="30"/>
                  </a:cubicBezTo>
                  <a:cubicBezTo>
                    <a:pt x="810" y="30"/>
                    <a:pt x="930" y="180"/>
                    <a:pt x="930" y="210"/>
                  </a:cubicBezTo>
                  <a:cubicBezTo>
                    <a:pt x="930" y="240"/>
                    <a:pt x="780" y="180"/>
                    <a:pt x="750" y="210"/>
                  </a:cubicBezTo>
                  <a:cubicBezTo>
                    <a:pt x="720" y="240"/>
                    <a:pt x="690" y="300"/>
                    <a:pt x="750" y="390"/>
                  </a:cubicBezTo>
                  <a:cubicBezTo>
                    <a:pt x="810" y="480"/>
                    <a:pt x="1020" y="720"/>
                    <a:pt x="1110" y="750"/>
                  </a:cubicBezTo>
                  <a:cubicBezTo>
                    <a:pt x="1200" y="780"/>
                    <a:pt x="1260" y="630"/>
                    <a:pt x="1290" y="570"/>
                  </a:cubicBezTo>
                  <a:cubicBezTo>
                    <a:pt x="1320" y="510"/>
                    <a:pt x="1320" y="420"/>
                    <a:pt x="1290" y="390"/>
                  </a:cubicBezTo>
                  <a:cubicBezTo>
                    <a:pt x="1260" y="360"/>
                    <a:pt x="1140" y="450"/>
                    <a:pt x="1110" y="390"/>
                  </a:cubicBezTo>
                  <a:cubicBezTo>
                    <a:pt x="1080" y="330"/>
                    <a:pt x="1020" y="60"/>
                    <a:pt x="1110" y="30"/>
                  </a:cubicBezTo>
                  <a:cubicBezTo>
                    <a:pt x="1200" y="0"/>
                    <a:pt x="1560" y="90"/>
                    <a:pt x="1650" y="210"/>
                  </a:cubicBezTo>
                  <a:cubicBezTo>
                    <a:pt x="1740" y="330"/>
                    <a:pt x="1680" y="600"/>
                    <a:pt x="1650" y="750"/>
                  </a:cubicBezTo>
                  <a:cubicBezTo>
                    <a:pt x="1620" y="900"/>
                    <a:pt x="1500" y="930"/>
                    <a:pt x="1470" y="1110"/>
                  </a:cubicBezTo>
                  <a:cubicBezTo>
                    <a:pt x="1440" y="1290"/>
                    <a:pt x="1380" y="1590"/>
                    <a:pt x="1470" y="1830"/>
                  </a:cubicBezTo>
                  <a:cubicBezTo>
                    <a:pt x="1560" y="2070"/>
                    <a:pt x="1890" y="2430"/>
                    <a:pt x="2010" y="2550"/>
                  </a:cubicBezTo>
                  <a:cubicBezTo>
                    <a:pt x="2130" y="2670"/>
                    <a:pt x="2160" y="2610"/>
                    <a:pt x="2190" y="25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 flipH="1" rot="3233400">
              <a:off x="7868520" y="4313520"/>
              <a:ext cx="228960" cy="313200"/>
            </a:xfrm>
            <a:custGeom>
              <a:avLst/>
              <a:gdLst/>
              <a:ahLst/>
              <a:rect l="l" t="t" r="r" b="b"/>
              <a:pathLst>
                <a:path w="2190" h="2910">
                  <a:moveTo>
                    <a:pt x="1830" y="2910"/>
                  </a:moveTo>
                  <a:cubicBezTo>
                    <a:pt x="1560" y="2760"/>
                    <a:pt x="1290" y="2610"/>
                    <a:pt x="1110" y="2370"/>
                  </a:cubicBezTo>
                  <a:cubicBezTo>
                    <a:pt x="930" y="2130"/>
                    <a:pt x="870" y="1590"/>
                    <a:pt x="750" y="1470"/>
                  </a:cubicBezTo>
                  <a:cubicBezTo>
                    <a:pt x="630" y="1350"/>
                    <a:pt x="480" y="1650"/>
                    <a:pt x="390" y="1650"/>
                  </a:cubicBezTo>
                  <a:cubicBezTo>
                    <a:pt x="300" y="1650"/>
                    <a:pt x="210" y="1500"/>
                    <a:pt x="210" y="1470"/>
                  </a:cubicBezTo>
                  <a:cubicBezTo>
                    <a:pt x="210" y="1440"/>
                    <a:pt x="360" y="1500"/>
                    <a:pt x="390" y="1470"/>
                  </a:cubicBezTo>
                  <a:cubicBezTo>
                    <a:pt x="420" y="1440"/>
                    <a:pt x="420" y="1320"/>
                    <a:pt x="390" y="1290"/>
                  </a:cubicBezTo>
                  <a:cubicBezTo>
                    <a:pt x="360" y="1260"/>
                    <a:pt x="270" y="1320"/>
                    <a:pt x="210" y="1290"/>
                  </a:cubicBezTo>
                  <a:cubicBezTo>
                    <a:pt x="150" y="1260"/>
                    <a:pt x="60" y="1170"/>
                    <a:pt x="30" y="1110"/>
                  </a:cubicBezTo>
                  <a:cubicBezTo>
                    <a:pt x="0" y="1050"/>
                    <a:pt x="0" y="930"/>
                    <a:pt x="30" y="930"/>
                  </a:cubicBezTo>
                  <a:cubicBezTo>
                    <a:pt x="60" y="930"/>
                    <a:pt x="150" y="1080"/>
                    <a:pt x="210" y="1110"/>
                  </a:cubicBezTo>
                  <a:cubicBezTo>
                    <a:pt x="270" y="1140"/>
                    <a:pt x="360" y="1140"/>
                    <a:pt x="390" y="1110"/>
                  </a:cubicBezTo>
                  <a:cubicBezTo>
                    <a:pt x="420" y="1080"/>
                    <a:pt x="420" y="990"/>
                    <a:pt x="390" y="930"/>
                  </a:cubicBezTo>
                  <a:cubicBezTo>
                    <a:pt x="360" y="870"/>
                    <a:pt x="240" y="810"/>
                    <a:pt x="210" y="750"/>
                  </a:cubicBezTo>
                  <a:cubicBezTo>
                    <a:pt x="180" y="690"/>
                    <a:pt x="180" y="600"/>
                    <a:pt x="210" y="570"/>
                  </a:cubicBezTo>
                  <a:cubicBezTo>
                    <a:pt x="240" y="540"/>
                    <a:pt x="360" y="540"/>
                    <a:pt x="390" y="570"/>
                  </a:cubicBezTo>
                  <a:cubicBezTo>
                    <a:pt x="420" y="600"/>
                    <a:pt x="330" y="690"/>
                    <a:pt x="390" y="750"/>
                  </a:cubicBezTo>
                  <a:cubicBezTo>
                    <a:pt x="450" y="810"/>
                    <a:pt x="690" y="960"/>
                    <a:pt x="750" y="930"/>
                  </a:cubicBezTo>
                  <a:cubicBezTo>
                    <a:pt x="810" y="900"/>
                    <a:pt x="780" y="690"/>
                    <a:pt x="750" y="570"/>
                  </a:cubicBezTo>
                  <a:cubicBezTo>
                    <a:pt x="720" y="450"/>
                    <a:pt x="570" y="300"/>
                    <a:pt x="570" y="210"/>
                  </a:cubicBezTo>
                  <a:cubicBezTo>
                    <a:pt x="570" y="120"/>
                    <a:pt x="690" y="30"/>
                    <a:pt x="750" y="30"/>
                  </a:cubicBezTo>
                  <a:cubicBezTo>
                    <a:pt x="810" y="30"/>
                    <a:pt x="930" y="180"/>
                    <a:pt x="930" y="210"/>
                  </a:cubicBezTo>
                  <a:cubicBezTo>
                    <a:pt x="930" y="240"/>
                    <a:pt x="780" y="180"/>
                    <a:pt x="750" y="210"/>
                  </a:cubicBezTo>
                  <a:cubicBezTo>
                    <a:pt x="720" y="240"/>
                    <a:pt x="690" y="300"/>
                    <a:pt x="750" y="390"/>
                  </a:cubicBezTo>
                  <a:cubicBezTo>
                    <a:pt x="810" y="480"/>
                    <a:pt x="1020" y="720"/>
                    <a:pt x="1110" y="750"/>
                  </a:cubicBezTo>
                  <a:cubicBezTo>
                    <a:pt x="1200" y="780"/>
                    <a:pt x="1260" y="630"/>
                    <a:pt x="1290" y="570"/>
                  </a:cubicBezTo>
                  <a:cubicBezTo>
                    <a:pt x="1320" y="510"/>
                    <a:pt x="1320" y="420"/>
                    <a:pt x="1290" y="390"/>
                  </a:cubicBezTo>
                  <a:cubicBezTo>
                    <a:pt x="1260" y="360"/>
                    <a:pt x="1140" y="450"/>
                    <a:pt x="1110" y="390"/>
                  </a:cubicBezTo>
                  <a:cubicBezTo>
                    <a:pt x="1080" y="330"/>
                    <a:pt x="1020" y="60"/>
                    <a:pt x="1110" y="30"/>
                  </a:cubicBezTo>
                  <a:cubicBezTo>
                    <a:pt x="1200" y="0"/>
                    <a:pt x="1560" y="90"/>
                    <a:pt x="1650" y="210"/>
                  </a:cubicBezTo>
                  <a:cubicBezTo>
                    <a:pt x="1740" y="330"/>
                    <a:pt x="1680" y="600"/>
                    <a:pt x="1650" y="750"/>
                  </a:cubicBezTo>
                  <a:cubicBezTo>
                    <a:pt x="1620" y="900"/>
                    <a:pt x="1500" y="930"/>
                    <a:pt x="1470" y="1110"/>
                  </a:cubicBezTo>
                  <a:cubicBezTo>
                    <a:pt x="1440" y="1290"/>
                    <a:pt x="1380" y="1590"/>
                    <a:pt x="1470" y="1830"/>
                  </a:cubicBezTo>
                  <a:cubicBezTo>
                    <a:pt x="1560" y="2070"/>
                    <a:pt x="1890" y="2430"/>
                    <a:pt x="2010" y="2550"/>
                  </a:cubicBezTo>
                  <a:cubicBezTo>
                    <a:pt x="2130" y="2670"/>
                    <a:pt x="2160" y="2610"/>
                    <a:pt x="2190" y="25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7369560" y="4129920"/>
              <a:ext cx="195840" cy="1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7434720" y="4196160"/>
              <a:ext cx="644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7630920" y="4198320"/>
              <a:ext cx="195840" cy="19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7696080" y="4262760"/>
              <a:ext cx="644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7304040" y="3808800"/>
              <a:ext cx="457200" cy="387000"/>
            </a:xfrm>
            <a:custGeom>
              <a:avLst/>
              <a:gdLst/>
              <a:ahLst/>
              <a:rect l="l" t="t" r="r" b="b"/>
              <a:pathLst>
                <a:path w="1260" h="1050">
                  <a:moveTo>
                    <a:pt x="0" y="1050"/>
                  </a:moveTo>
                  <a:cubicBezTo>
                    <a:pt x="0" y="675"/>
                    <a:pt x="0" y="300"/>
                    <a:pt x="180" y="150"/>
                  </a:cubicBezTo>
                  <a:cubicBezTo>
                    <a:pt x="360" y="0"/>
                    <a:pt x="900" y="0"/>
                    <a:pt x="1080" y="150"/>
                  </a:cubicBezTo>
                  <a:cubicBezTo>
                    <a:pt x="1260" y="300"/>
                    <a:pt x="1230" y="900"/>
                    <a:pt x="1260" y="10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7151760" y="4196160"/>
              <a:ext cx="152280" cy="88200"/>
            </a:xfrm>
            <a:custGeom>
              <a:avLst/>
              <a:gdLst/>
              <a:ahLst/>
              <a:rect l="l" t="t" r="r" b="b"/>
              <a:pathLst>
                <a:path w="420" h="240">
                  <a:moveTo>
                    <a:pt x="420" y="30"/>
                  </a:moveTo>
                  <a:cubicBezTo>
                    <a:pt x="270" y="15"/>
                    <a:pt x="120" y="0"/>
                    <a:pt x="60" y="30"/>
                  </a:cubicBezTo>
                  <a:cubicBezTo>
                    <a:pt x="0" y="60"/>
                    <a:pt x="0" y="180"/>
                    <a:pt x="60" y="210"/>
                  </a:cubicBezTo>
                  <a:cubicBezTo>
                    <a:pt x="120" y="240"/>
                    <a:pt x="270" y="225"/>
                    <a:pt x="42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7761240" y="4196160"/>
              <a:ext cx="152280" cy="88200"/>
            </a:xfrm>
            <a:custGeom>
              <a:avLst/>
              <a:gdLst/>
              <a:ahLst/>
              <a:rect l="l" t="t" r="r" b="b"/>
              <a:pathLst>
                <a:path w="420" h="240">
                  <a:moveTo>
                    <a:pt x="0" y="30"/>
                  </a:moveTo>
                  <a:cubicBezTo>
                    <a:pt x="150" y="15"/>
                    <a:pt x="300" y="0"/>
                    <a:pt x="360" y="30"/>
                  </a:cubicBezTo>
                  <a:cubicBezTo>
                    <a:pt x="420" y="60"/>
                    <a:pt x="390" y="180"/>
                    <a:pt x="360" y="210"/>
                  </a:cubicBezTo>
                  <a:cubicBezTo>
                    <a:pt x="330" y="240"/>
                    <a:pt x="255" y="225"/>
                    <a:pt x="18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1"/>
            <p:cNvSpPr/>
            <p:nvPr/>
          </p:nvSpPr>
          <p:spPr>
            <a:xfrm>
              <a:off x="7108200" y="3200400"/>
              <a:ext cx="783720" cy="59724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2"/>
            <p:cNvSpPr/>
            <p:nvPr/>
          </p:nvSpPr>
          <p:spPr>
            <a:xfrm>
              <a:off x="6781680" y="3532320"/>
              <a:ext cx="457200" cy="3319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3"/>
            <p:cNvSpPr/>
            <p:nvPr/>
          </p:nvSpPr>
          <p:spPr>
            <a:xfrm flipH="1">
              <a:off x="7761240" y="3532320"/>
              <a:ext cx="391680" cy="3319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6"/>
          <p:cNvSpPr/>
          <p:nvPr/>
        </p:nvSpPr>
        <p:spPr>
          <a:xfrm>
            <a:off x="609480" y="3276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and balanced redox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2120" y="51814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……. polyatomic ions or molecules are involved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1371600" y="42670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 acidic and neutral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676520" cy="9936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2057400" y="471600"/>
            <a:ext cx="49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Brain Too Small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94920" y="1523520"/>
            <a:ext cx="3048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S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Redox rxns involving polyatomic ions or molecu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523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ermanganate = manganate (V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191120" y="2133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267080" y="2819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191120" y="342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191120" y="3962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19112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lfur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114800" y="51814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nganese dioxide = manganese (IV) 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3808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 acidified potassium permanganate solution (purple) will turn colourless when iron (II) sulfate is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80880" y="28954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d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Writing ion – electron half equations –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304812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629400" y="289548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4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666880" y="2895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8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352680" y="3124080"/>
            <a:ext cx="1067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809880" y="2895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33520" y="3581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+  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7848720" y="3581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x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33520" y="4343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+  5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6934320" y="42670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 flipH="1">
            <a:off x="419112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0" y="5257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verall: Mn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6095880" y="5410080"/>
            <a:ext cx="19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867280" y="525780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4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2514600" y="5257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8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505320" y="5257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5F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73152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5F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304920" y="18288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ermanganate ion (Mn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reacts with the Fe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on to form Mn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a colourless (or v. pale orang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The Rules</a:t>
            </a:r>
            <a:br>
              <a:rPr sz="4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few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 extra steps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alance the atoms which aren’t O or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dd water molecule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to the other side to balance any oxygen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dd H</a:t>
            </a:r>
            <a:r>
              <a:rPr b="1" lang="en-NZ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ion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to the other side to balance the H’s in the water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alance the charges by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dding electrons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the most positive side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ancel out terms that appear on both sides and comb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267080" y="228600"/>
            <a:ext cx="4191120" cy="1295280"/>
          </a:xfrm>
          <a:prstGeom prst="wedgeRoundRectCallout">
            <a:avLst>
              <a:gd name="adj1" fmla="val -68259"/>
              <a:gd name="adj2" fmla="val 31250"/>
              <a:gd name="adj3" fmla="val 16667"/>
            </a:avLst>
          </a:prstGeom>
          <a:solidFill>
            <a:srgbClr val="fd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ou don’t have to use them all… but make sure you do them i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0880" y="990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 acidified potassium dichromate solution (orange) will turn green when iron (II) sulfate is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0880" y="28954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d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Cr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943600" y="304812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629400" y="289548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7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666880" y="28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352680" y="3124080"/>
            <a:ext cx="1067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809880" y="2895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6 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8077320" y="3581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x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419112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410080" y="28954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152280" y="5334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verall:C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6400800" y="5334120"/>
            <a:ext cx="297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7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 +6F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2590920" y="5334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304920" y="18288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chromate ion (C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reacts with the Fe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on to form Cr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green) and Fe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533520" y="3581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+  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533520" y="4343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+  6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8"/>
          <p:cNvSpPr/>
          <p:nvPr/>
        </p:nvSpPr>
        <p:spPr>
          <a:xfrm flipH="1">
            <a:off x="6857640" y="42670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808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 acidified hydrogen peroxide solution (colourless) will turn red-orange when potassium bromide solution is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80880" y="28954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d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 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943600" y="304812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362320" y="2895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276720" y="2895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80880" y="3581280"/>
            <a:ext cx="647712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Br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>
            <a:off x="365760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304920" y="1828800"/>
            <a:ext cx="8076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hydrogen peroxide (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reacts with the Br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on to form water and B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red-oran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5791320" y="2895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457200" y="4495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verall: 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                 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2Br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2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  + B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 flipV="1" rot="10800000">
            <a:off x="2742840" y="449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1600200" y="36576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1905120" y="3595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 flipH="1">
            <a:off x="7162920" y="3429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6705720" y="3657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80880" y="990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 acidified potassium dichromate solution (orange) will turn green when sodium hydrogen sulfite is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28954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d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Cr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943600" y="304812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629400" y="289548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7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666880" y="28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352680" y="3124080"/>
            <a:ext cx="1067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809880" y="2895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6 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8077320" y="3581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x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>
            <a:off x="419112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5410080" y="28954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380880" y="36576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H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5943600" y="38098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2743200" y="36576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5943600" y="3657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7010280" y="3657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2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H="1">
            <a:off x="7315200" y="42670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380880" y="44197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3H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3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5943600" y="457200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2743200" y="4343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3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5943600" y="4419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9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7620120" y="457200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6934320" y="4419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6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152280" y="5334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verall:C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6400800" y="5334120"/>
            <a:ext cx="297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4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 +3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2590920" y="53341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5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H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1"/>
          <p:cNvSpPr/>
          <p:nvPr/>
        </p:nvSpPr>
        <p:spPr>
          <a:xfrm flipH="1">
            <a:off x="6248520" y="43434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 flipH="1">
            <a:off x="3048120" y="2819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3124080" y="25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4"/>
          <p:cNvSpPr/>
          <p:nvPr/>
        </p:nvSpPr>
        <p:spPr>
          <a:xfrm flipH="1">
            <a:off x="3352680" y="4191120"/>
            <a:ext cx="5335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5"/>
          <p:cNvSpPr/>
          <p:nvPr/>
        </p:nvSpPr>
        <p:spPr>
          <a:xfrm flipH="1">
            <a:off x="7086240" y="2819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6934320" y="2565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8"/>
          <p:cNvSpPr/>
          <p:nvPr/>
        </p:nvSpPr>
        <p:spPr>
          <a:xfrm>
            <a:off x="304920" y="1828800"/>
            <a:ext cx="83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chromate ion (C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reacts with the hydrogen sulfite (HS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ion to form Cr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green) and S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-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colourl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b2s</dc:creator>
  <dc:description/>
  <dc:language>en-US</dc:language>
  <cp:lastModifiedBy>Josi</cp:lastModifiedBy>
  <dcterms:modified xsi:type="dcterms:W3CDTF">2012-01-14T04:43:0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